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jpeg" ContentType="image/jpeg"/>
  <Override PartName="/ppt/media/image28.jpeg" ContentType="image/jpeg"/>
  <Override PartName="/ppt/media/image26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5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708-2287-4CF5-9FF2-1B0E5F7F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053-B083-4DAE-92CF-29234084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D27-81B5-4D25-9D11-14F86216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308-89BB-4D11-BA0C-9DD46974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4DAF-6317-41E2-BA56-4E85919E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CAA1-C65C-4FF9-A699-FDE67186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536C-76A2-4898-9031-1F9D9EF3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640B-0E12-4545-AA71-710BCE6D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5336-B45F-47EF-A36A-1306306F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A82D-1639-47EA-A930-16AB18C0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BD9-62F3-4F66-807D-E66B093B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3D6-3819-4048-A089-8D1E783E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6CCF-9A66-4172-8F6E-C5D34C7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77BB-93A4-44EE-B36D-199D159F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4AA0-3B7B-45C8-ADD2-86F425DF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22E7-511D-4FD4-9D71-C9C6EE23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B5CC-1C14-447C-B095-5F4FD24F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AF1-91A0-482A-A501-CF5F7DD3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86A-4E1C-42D6-8D77-13F5D085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E58-8C26-4FF6-B389-D948C58A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FE8-DF17-4C57-BD07-A12F5733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ED0-F5F0-445B-BACF-ED685CFE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286-FAF5-4791-9D8D-EC4A9751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914-352D-42E6-80A6-5852C85E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eadc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9498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688e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4242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242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242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659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659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5E77-F4FC-4BEA-BC06-9B6E872A595B}" type="slidenum">
              <a:rPr b="0" lang="en-US" sz="1400" spc="-1" strike="noStrike">
                <a:solidFill>
                  <a:srgbClr val="22659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494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6ea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3e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1c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659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659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AC5C-A16A-437C-BAC4-5DC4BE3037E0}" type="slidenum">
              <a:rPr b="0" lang="en-US" sz="1400" spc="-1" strike="noStrike">
                <a:solidFill>
                  <a:srgbClr val="22659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6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2426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9498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6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e688e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6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24262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6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242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6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242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6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ccl.rit.albany.edu/knilt/index.php/File:Athens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Athens: What Would a Visitor See?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381" name="map_athens_greece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36115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Democracy at work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06" name="Athens" descr="File:athe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72388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Ancient Voting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08" name="athen-ostraka1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409" name="ostrakon_2831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3863880" cy="25938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565440" y="476568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09880" y="49528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62"/>
                </a:solidFill>
                <a:latin typeface="Arial"/>
              </a:rPr>
              <a:t>What term used today was inspired by the Ancient Greek voting process using </a:t>
            </a:r>
            <a:r>
              <a:rPr b="0" i="1" lang="en-US" sz="2400" spc="-1" strike="noStrike">
                <a:solidFill>
                  <a:srgbClr val="424262"/>
                </a:solidFill>
                <a:latin typeface="Arial"/>
              </a:rPr>
              <a:t>ostraka?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The Theater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13" name="ancient-athens-4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35336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Pedagogue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15" name="AncientGreece-18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657600" cy="2506680"/>
          </a:xfrm>
          <a:prstGeom prst="rect">
            <a:avLst/>
          </a:prstGeom>
          <a:ln w="0">
            <a:noFill/>
          </a:ln>
        </p:spPr>
      </p:pic>
      <p:pic>
        <p:nvPicPr>
          <p:cNvPr id="416" name="educ2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581280" cy="2349720"/>
          </a:xfrm>
          <a:prstGeom prst="rect">
            <a:avLst/>
          </a:prstGeom>
          <a:ln w="0">
            <a:noFill/>
          </a:ln>
        </p:spPr>
      </p:pic>
      <p:pic>
        <p:nvPicPr>
          <p:cNvPr id="417" name="HerculesSchool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3668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659c"/>
                </a:solidFill>
                <a:latin typeface="Arial"/>
              </a:rPr>
              <a:t>Spinning &amp; Weaving . . .</a:t>
            </a:r>
            <a:endParaRPr b="0" lang="en-US" sz="40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1004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420" name="WEAVING" descr=""/>
          <p:cNvPicPr/>
          <p:nvPr/>
        </p:nvPicPr>
        <p:blipFill>
          <a:blip r:embed="rId1"/>
          <a:stretch/>
        </p:blipFill>
        <p:spPr>
          <a:xfrm>
            <a:off x="152280" y="2263680"/>
            <a:ext cx="4496040" cy="2916360"/>
          </a:xfrm>
          <a:prstGeom prst="rect">
            <a:avLst/>
          </a:prstGeom>
          <a:ln w="0">
            <a:noFill/>
          </a:ln>
        </p:spPr>
      </p:pic>
      <p:pic>
        <p:nvPicPr>
          <p:cNvPr id="421" name="ThWeaving1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2640240" cy="2286000"/>
          </a:xfrm>
          <a:prstGeom prst="rect">
            <a:avLst/>
          </a:prstGeom>
          <a:ln w="0">
            <a:noFill/>
          </a:ln>
        </p:spPr>
      </p:pic>
      <p:pic>
        <p:nvPicPr>
          <p:cNvPr id="422" name="WoolKalathos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21891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Knucklebones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24" name="spiel_Astragalspiel1" descr=""/>
          <p:cNvPicPr/>
          <p:nvPr/>
        </p:nvPicPr>
        <p:blipFill>
          <a:blip r:embed="rId1"/>
          <a:stretch/>
        </p:blipFill>
        <p:spPr>
          <a:xfrm>
            <a:off x="2362320" y="4572000"/>
            <a:ext cx="4457520" cy="2046240"/>
          </a:xfrm>
          <a:prstGeom prst="rect">
            <a:avLst/>
          </a:prstGeom>
          <a:ln w="0">
            <a:noFill/>
          </a:ln>
        </p:spPr>
      </p:pic>
      <p:pic>
        <p:nvPicPr>
          <p:cNvPr id="425" name="knucklebones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2895480" cy="2782800"/>
          </a:xfrm>
          <a:prstGeom prst="rect">
            <a:avLst/>
          </a:prstGeom>
          <a:ln w="0">
            <a:noFill/>
          </a:ln>
        </p:spPr>
      </p:pic>
      <p:pic>
        <p:nvPicPr>
          <p:cNvPr id="426" name="hellenism_girl-playing-knucklebones" descr=""/>
          <p:cNvPicPr/>
          <p:nvPr/>
        </p:nvPicPr>
        <p:blipFill>
          <a:blip r:embed="rId3"/>
          <a:stretch/>
        </p:blipFill>
        <p:spPr>
          <a:xfrm>
            <a:off x="5334120" y="1905120"/>
            <a:ext cx="26636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Citizens of Greece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28" name="athens1" descr=""/>
          <p:cNvPicPr/>
          <p:nvPr/>
        </p:nvPicPr>
        <p:blipFill>
          <a:blip r:embed="rId1"/>
          <a:stretch/>
        </p:blipFill>
        <p:spPr>
          <a:xfrm>
            <a:off x="1549440" y="1828800"/>
            <a:ext cx="604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On to Sparta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30" name="2011040501563008_funny_300_this_is_sparta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7830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22659c"/>
                </a:solidFill>
                <a:latin typeface="Arial"/>
              </a:rPr>
              <a:t>Study the map. What are the most likely methods of transportation you would have used to travel to Athens in ancient times?</a:t>
            </a:r>
            <a:br>
              <a:rPr sz="2800"/>
            </a:br>
            <a:endParaRPr b="0" lang="en-US" sz="28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383" name="greece-physical-small" descr=""/>
          <p:cNvPicPr/>
          <p:nvPr/>
        </p:nvPicPr>
        <p:blipFill>
          <a:blip r:embed="rId1"/>
          <a:stretch/>
        </p:blipFill>
        <p:spPr>
          <a:xfrm>
            <a:off x="2178000" y="1905120"/>
            <a:ext cx="4390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Piraeus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386" name="PWLBF00Z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387" name="Piraeus_Aerial-view_34511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267080" cy="29224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57200" y="4876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5105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62"/>
                </a:solidFill>
                <a:latin typeface="Arial"/>
              </a:rPr>
              <a:t>A painting of Piraeus in ancient times and an aerial view of the seaport today.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The Walk to Athens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391" name="ancient-athens-5" descr="Ancient Athens - Road to Athens"/>
          <p:cNvPicPr/>
          <p:nvPr/>
        </p:nvPicPr>
        <p:blipFill>
          <a:blip r:embed="rId1"/>
          <a:stretch/>
        </p:blipFill>
        <p:spPr>
          <a:xfrm>
            <a:off x="1600200" y="1752480"/>
            <a:ext cx="5715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The Walk to Athens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393" name="4Nazareth-village-recreation-of-shepherds-tending-sheep-2000-years-ago_-JOHN-LARUE1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3124080" cy="2724120"/>
          </a:xfrm>
          <a:prstGeom prst="rect">
            <a:avLst/>
          </a:prstGeom>
          <a:ln w="0">
            <a:noFill/>
          </a:ln>
        </p:spPr>
      </p:pic>
      <p:pic>
        <p:nvPicPr>
          <p:cNvPr id="394" name="olive-trees%20" descr=""/>
          <p:cNvPicPr/>
          <p:nvPr/>
        </p:nvPicPr>
        <p:blipFill>
          <a:blip r:embed="rId2"/>
          <a:stretch/>
        </p:blipFill>
        <p:spPr>
          <a:xfrm>
            <a:off x="64008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395" name="PHO-09Oct12-182255" descr=""/>
          <p:cNvPicPr/>
          <p:nvPr/>
        </p:nvPicPr>
        <p:blipFill>
          <a:blip r:embed="rId3"/>
          <a:stretch/>
        </p:blipFill>
        <p:spPr>
          <a:xfrm>
            <a:off x="304920" y="4172040"/>
            <a:ext cx="35049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The Acropolis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397" name="athens_acropolis1_lrg" descr=""/>
          <p:cNvPicPr/>
          <p:nvPr/>
        </p:nvPicPr>
        <p:blipFill>
          <a:blip r:embed="rId1"/>
          <a:stretch/>
        </p:blipFill>
        <p:spPr>
          <a:xfrm>
            <a:off x="1066680" y="1486080"/>
            <a:ext cx="6858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Parthenon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399" name="1-parthenon-bb" descr=""/>
          <p:cNvPicPr/>
          <p:nvPr/>
        </p:nvPicPr>
        <p:blipFill>
          <a:blip r:embed="rId1"/>
          <a:stretch/>
        </p:blipFill>
        <p:spPr>
          <a:xfrm>
            <a:off x="990720" y="1544760"/>
            <a:ext cx="73911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Athena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01" name="AthenaGilded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429000" cy="4846680"/>
          </a:xfrm>
          <a:prstGeom prst="rect">
            <a:avLst/>
          </a:prstGeom>
          <a:ln w="0">
            <a:noFill/>
          </a:ln>
        </p:spPr>
      </p:pic>
      <p:pic>
        <p:nvPicPr>
          <p:cNvPr id="402" name="Athens_Parthenon_Athena_statue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335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Marketplace of Athens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04" name="Athens+Marketplace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199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8:19:09Z</dcterms:created>
  <dc:creator>mussekel</dc:creator>
  <dc:description/>
  <dc:language>en-US</dc:language>
  <cp:lastModifiedBy>mussekel</cp:lastModifiedBy>
  <dcterms:modified xsi:type="dcterms:W3CDTF">2011-05-20T15:47:43Z</dcterms:modified>
  <cp:revision>6</cp:revision>
  <dc:subject/>
  <dc:title>Athens: What Would a Visitor See?</dc:title>
</cp:coreProperties>
</file>